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578-7F28-4B5F-806B-F32EFDFB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C04-934F-4064-82C2-754C6A5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640-267A-4B42-96DE-85E63030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0CA-1A3F-4F93-B19B-38E33D20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AA0-BBE4-4DB1-9691-1294E5FE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1A4A-A4C2-4E7B-B30D-5D12FA0B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69DD-2A1E-47A8-9598-FA61D908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F411-9201-4ADC-9038-1A924AA6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C3DF-B6F0-4A37-88CE-E28C3CF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9DB-EB73-4497-AEC5-CA648BC0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A1C-1B99-4DFC-BBF7-E59F9E3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58F-93D4-43F0-87A4-D17A6E4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E75-A96D-440B-90CE-703BFE3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1078-FA17-484A-BAA2-F9F93BC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F00-7A15-4D42-978E-3878C8DD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405-8877-4F56-ACE7-CF3F3514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827-D778-4826-BC15-D575A3B7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443-7C3D-4852-9C9B-4D9E081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1D6-2281-4F85-9A27-CA65E67A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43F-3B44-4021-B6EC-F89CCE76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E01-992A-47FC-979C-D7A22DC0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EDE-064F-4C4A-ADA9-9054FF7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C98-F251-486C-A247-E978064B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A4F-114A-4EE9-8E83-DADE57A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C0E-B68F-4F93-97DA-2D221AAB0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3E46-6E01-4637-B79D-5D17B3621E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23Z</dcterms:modified>
  <cp:revision>7</cp:revision>
  <dc:subject/>
  <dc:title>Our Christmas service</dc:title>
</cp:coreProperties>
</file>