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C5DD7-6DC6-4E88-B59F-981B082C5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1532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58560"/>
            <a:ext cx="81532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3CD20-E23E-4D5B-A9ED-C3D9B4A68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39787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35360" y="1371600"/>
            <a:ext cx="39787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58560"/>
            <a:ext cx="39787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35360" y="3958560"/>
            <a:ext cx="39787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82783-FCE9-4B8B-AE64-863D14C47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25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14080" y="1371600"/>
            <a:ext cx="2625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0600" y="1371600"/>
            <a:ext cx="2625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58560"/>
            <a:ext cx="2625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14080" y="3958560"/>
            <a:ext cx="2625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0600" y="3958560"/>
            <a:ext cx="2625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8EDCA-519B-43EE-9803-A9C40BE11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A3585-FE3A-4807-B622-56FBCCAC9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E003D-5C01-4A54-863D-50F9A6BFA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231EC-F9D9-4580-B80D-6E3530568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39787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35360" y="1371600"/>
            <a:ext cx="39787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71D85-F539-437E-A0CA-A145663CE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1AC0A-25F9-481C-BD5F-B64FA8F24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1532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AAC04-5EBB-43E9-95C3-599697996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39787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35360" y="1371600"/>
            <a:ext cx="39787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58560"/>
            <a:ext cx="39787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CE6C4-BD47-44CD-AF1C-588C5DD66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F8C96-B578-457A-B11C-298F2D999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39787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35360" y="1371600"/>
            <a:ext cx="39787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35360" y="3958560"/>
            <a:ext cx="39787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ADE60-F90E-4AF9-A55E-CB4031CD5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39787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35360" y="1371600"/>
            <a:ext cx="39787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58560"/>
            <a:ext cx="81532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2CAB1-96D7-4245-80A1-DFA9253FE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1532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58560"/>
            <a:ext cx="81532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B9292-CBCA-4EF3-83D6-75ED63427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39787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35360" y="1371600"/>
            <a:ext cx="39787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58560"/>
            <a:ext cx="39787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35360" y="3958560"/>
            <a:ext cx="39787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EA4DF-8175-4F28-BA56-C54F499A9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25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14080" y="1371600"/>
            <a:ext cx="2625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70600" y="1371600"/>
            <a:ext cx="2625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58560"/>
            <a:ext cx="2625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14080" y="3958560"/>
            <a:ext cx="2625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70600" y="3958560"/>
            <a:ext cx="2625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76FAE-6AA6-40C0-A621-A3A572237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034CE-AD59-44BC-B41A-D8ACE2EE5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39787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35360" y="1371600"/>
            <a:ext cx="39787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F43D4-BBE2-456B-87A9-1B0EBBC1E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48D7C-0818-47EC-A4E3-C3749C321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1532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BB971-8916-447E-8991-7D65FE534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39787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35360" y="1371600"/>
            <a:ext cx="39787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58560"/>
            <a:ext cx="39787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12BD6-0BEA-4995-AAB5-9000D5285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39787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5360" y="1371600"/>
            <a:ext cx="39787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35360" y="3958560"/>
            <a:ext cx="39787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E0B87-C16A-49F5-B2E9-6ACA9EA54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39787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5360" y="1371600"/>
            <a:ext cx="39787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58560"/>
            <a:ext cx="81532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DA0DF-0F33-47F3-9A77-2D349483B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60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33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9933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33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9933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9933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00440"/>
            <a:ext cx="21337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00440"/>
            <a:ext cx="2895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00440"/>
            <a:ext cx="2057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70425-205E-4DD3-9BFE-C5D7F746915C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37160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33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9933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33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9933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9933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77120"/>
            <a:ext cx="289584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46128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12387-94FB-44E1-AAD6-3E995B71A967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3160" y="228600"/>
            <a:ext cx="6629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9933"/>
                </a:solidFill>
                <a:latin typeface="Arial"/>
              </a:rPr>
              <a:t>Our Christmas service</a:t>
            </a: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838080" y="990360"/>
            <a:ext cx="609624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t our scho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9933"/>
                </a:solidFill>
                <a:latin typeface="Arial"/>
              </a:rPr>
              <a:t>Our Christmas service</a:t>
            </a: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457200" y="1371600"/>
            <a:ext cx="81532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3T11:58:21Z</dcterms:created>
  <dc:creator>Michael</dc:creator>
  <dc:description/>
  <dc:language>en-US</dc:language>
  <cp:lastModifiedBy>Michael</cp:lastModifiedBy>
  <dcterms:modified xsi:type="dcterms:W3CDTF">2010-12-03T12:14:04Z</dcterms:modified>
  <cp:revision>6</cp:revision>
  <dc:subject/>
  <dc:title>Our Christmas service</dc:title>
</cp:coreProperties>
</file>