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B0E-AC5F-4696-943D-77E30941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CDC-03EC-4CA0-B717-51036D9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59-07F3-485F-B823-417015A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82A-AB69-47B7-BCC3-410433E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7C7-5A48-47D3-B7DA-853EA278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576-DABD-485D-9376-BA19BC9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824-44CF-41DF-975E-409C4DCD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E575-92CB-4F2B-B2AA-28DE423B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F80-278E-4E6A-84E2-D02D741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49B-FD96-4E3F-B628-5913534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9B11-5B40-4E09-8099-1DC6274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477-D29A-4E42-B9F0-B0E15586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781C-0F7B-4168-AE39-1BBB8BE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754-548D-48E3-981A-E6B0F03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6B4D-C58A-480B-8A54-85EB7FF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FEB-D0A3-4555-BAD9-B1D7AD72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251-76A3-4141-A4F9-BAF78A6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F1C-E8C3-4D36-878C-D6448998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6B4-40D4-436A-BF6F-A960581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A0B-AC6C-464D-B0C2-9C0BE38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520-A614-4D34-B39A-8945918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F78-26E3-4214-871A-7205F06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226-E655-46D8-9598-3F4990F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957-FE5C-421C-81C8-E702877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400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04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00ED-444D-4FDE-AD9D-CF5E5AB5C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415-8E9E-4DD4-B416-B04CEAD3B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334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752120"/>
            <a:ext cx="8382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2:54Z</dcterms:modified>
  <cp:revision>3</cp:revision>
  <dc:subject/>
  <dc:title>Our Christmas service</dc:title>
</cp:coreProperties>
</file>