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1BB1-4135-4F37-B849-218B4587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A770-E978-46C4-BF45-C86787C9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05A3-D84A-4841-99A9-CD4B8A24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33B7-BF45-4327-A093-1E768A68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E71F-F9D4-4E00-BAB2-15C4A78E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FE94-1482-4CCB-8C48-0499C500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04D7-1CF1-4E81-A97D-70FF6851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D2C8-F8B7-46B0-91CA-254369CC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481D-F66C-46B6-86E9-5110977D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3308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DA54-3E74-4FE8-9C5D-DE0A1F3F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7122-423E-44D0-9AAA-FE6B0227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7AFA-0CA0-42B8-9730-E3DDFC44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D877-6145-4CAD-AE20-48DB6A2C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0ACB-63E1-4C83-97BF-54AF3C03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5645-D174-4EA4-A444-FBA08775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8BA1-9AE6-4112-B41F-FAD2C4A0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E99B-59A3-4EA0-9163-0C61DF4D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86E2-EADB-44C8-9F9F-5C2C2077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2DC4-F23E-44D2-9FD2-58EC7030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F147-340C-4DAE-886F-F58F3245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308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840B-3F94-4EFE-A039-426FE879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0CD1-AE24-4BB9-AE89-8E563CD2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6E45-6215-4309-A4C8-1FC381E4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8AA5-8DEA-47A6-BA3D-84DB7FCC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A5B9-DE0F-407B-BE4F-A32EBBCAB90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88200"/>
            <a:ext cx="2133720" cy="38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88200"/>
            <a:ext cx="2895840" cy="38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88200"/>
            <a:ext cx="2133720" cy="38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089A-4566-4231-89CB-1589990F7D6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2440" y="4859280"/>
            <a:ext cx="8454960" cy="87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Arial"/>
              </a:rPr>
              <a:t>Our Christmas servic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2440" y="5744880"/>
            <a:ext cx="6400800" cy="5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at our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ur Christmas serv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1:58:21Z</dcterms:created>
  <dc:creator>Michael</dc:creator>
  <dc:description/>
  <dc:language>en-US</dc:language>
  <cp:lastModifiedBy>Michael</cp:lastModifiedBy>
  <dcterms:modified xsi:type="dcterms:W3CDTF">2010-12-03T12:15:10Z</dcterms:modified>
  <cp:revision>9</cp:revision>
  <dc:subject/>
  <dc:title>Our Christmas service</dc:title>
</cp:coreProperties>
</file>