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2F80-F98F-4FD8-B882-4C539C047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99528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B306-A792-497A-A51C-C99694A9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9952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9952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833F-18E1-4999-B60B-AC48A2FAD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44792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44792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99528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99528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99528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4A40-17B1-4031-963C-3109F1CBF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9EE7-071F-4389-99C1-EEC12FE30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0618-62E1-4458-8081-89307E62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3924-A0A7-41EE-8FBF-DEF91937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4479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0877-53AA-4656-8CAD-78FB6D63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CCA8-FC78-45A2-AC51-46928459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822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95B0-629B-42EA-883B-7CA7A82C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4479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9952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FD9B1-DE9C-41B1-BD4A-03D1B846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55B7-3AD3-4F44-906D-FE62CF5F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9952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F39A-0B8F-478F-8F3D-23318AB2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99528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ABA08-DA75-4D52-BAA4-3611A5B9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99528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71D2-7796-407F-B260-C49427BA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9952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9952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6408-019C-44E8-953B-8077EB0D8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44792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44792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99528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99528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99528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DAC3-00B1-4254-8DBD-35E29B4DA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B003-04C3-4CE6-85B8-1A30310B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4479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06F3-1F58-4AC6-9330-54725419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2387-DE88-4C47-B5A8-D14A0DF9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822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559A-BBB7-47C5-879F-D6982035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4479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9952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606F-D22A-4722-9898-E56102DC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9952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725D-EB6A-442D-A699-ADA98989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99528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32CF-BFEE-4854-B526-A88C3F47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400440"/>
            <a:ext cx="2210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00800" y="640044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2E4A-27BA-4A0A-8CE1-88C2205B557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3160" y="6477120"/>
            <a:ext cx="23619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200040" y="6477120"/>
            <a:ext cx="3048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62904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A7C2-C5EB-47A3-81DC-75130C17AA9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ur Christmas servic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95280" y="914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t our sch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ur Christmas servic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1:58:21Z</dcterms:created>
  <dc:creator>Michael</dc:creator>
  <dc:description/>
  <dc:language>en-US</dc:language>
  <cp:lastModifiedBy>Michael</cp:lastModifiedBy>
  <dcterms:modified xsi:type="dcterms:W3CDTF">2010-12-03T12:13:43Z</dcterms:modified>
  <cp:revision>5</cp:revision>
  <dc:subject/>
  <dc:title>Our Christmas service</dc:title>
</cp:coreProperties>
</file>