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9F26-F56D-495D-B57C-E16CD030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031-B137-425F-91AB-4E790219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12FB-3A4C-478F-B8FC-A1EF1628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E30A-85E4-4DE7-9FE4-E0063D1D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CD14-07A8-426A-BCB2-F8AF9693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5A07-4FF0-41D8-B79C-E8518F6F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8606-7ED9-4984-AE8B-4B7A2E4F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F887-81D4-4B6D-A6C0-70612642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3D3B-0F53-4F2D-9362-AB34A5F2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8FE1-39EC-45CC-8555-0D6C80B6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C4FE-10DE-4A62-AAE3-9C7E4910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98F4-814F-456F-80C9-63FCD94E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ECB6-D2BD-4DFD-AFEB-9ABF9D89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34F2-37C6-4973-96F6-C08E7112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1C63-40C8-4BC1-B6E0-351164A5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7C72-A7F7-495D-A6C4-F13676E2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0C40-09E7-4368-900B-239CDCCF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B283-A5FE-4EFE-8BD9-8535F315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7544-CD3B-4A51-BFC2-65E16A3E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C715-C48E-4B35-8734-09086E4D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D253-BA0B-4CDD-B502-D8252241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4BCE-B177-498B-AA9B-F7FD22FF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41D3-D6C5-439C-A610-16C75FD2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E27C-F094-45CE-8270-054D9F0A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a05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24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1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24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3DEC-93CF-4CE5-BD92-7833AE9D87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a05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24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241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24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02F4-95F8-498A-86B5-C852C15E9DA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9440" y="152280"/>
            <a:ext cx="8454960" cy="105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eba05a"/>
                </a:solidFill>
                <a:latin typeface="Arial"/>
              </a:rPr>
              <a:t>Our Christmas service</a:t>
            </a:r>
            <a:endParaRPr b="1" lang="en-US" sz="46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6520" y="1208160"/>
            <a:ext cx="640080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t our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ba05a"/>
                </a:solidFill>
                <a:latin typeface="Arial"/>
              </a:rPr>
              <a:t>Our Christmas service</a:t>
            </a: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752120"/>
            <a:ext cx="822960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1:58:21Z</dcterms:created>
  <dc:creator>Michael</dc:creator>
  <dc:description/>
  <dc:language>en-US</dc:language>
  <cp:lastModifiedBy>Michael</cp:lastModifiedBy>
  <dcterms:modified xsi:type="dcterms:W3CDTF">2010-12-03T12:14:43Z</dcterms:modified>
  <cp:revision>8</cp:revision>
  <dc:subject/>
  <dc:title>Our Christmas service</dc:title>
</cp:coreProperties>
</file>