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026-7ACD-4A11-81D2-7B601A7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AFD-043F-4C42-8A03-FBBBC52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596-E725-41C1-A1C4-A6E195F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BD-5DC3-4EBB-86D6-4E184261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5319-A334-455F-BCB4-A94E02CF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EB85-FAF3-4498-B653-641AF10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B7E-D605-4CFB-A2A3-7ACE0C8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CA9-7990-4BAE-84FB-C58EACC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0EB-BF1E-4A51-8399-052AE857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0011-54E5-4C7E-A602-0489F8A9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4BEF-D5D9-4FCE-AF9D-1659A88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75D-1438-4DF1-AF5C-43D5E4E2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7B0-5D84-4A4C-99E3-99BD1A62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7B85-A914-4E00-A293-CC50C69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B9C-E801-42D5-B48A-10F62FD3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F6D-191A-414C-9FC9-71C972B3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20D-5A97-4F8C-A417-6683AF70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087-B647-4083-8213-0B11251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979-CDB2-49B5-A4C7-8B9E38B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ACB-34EE-4D92-9AD8-6D0C661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82F-5876-47A7-8620-D7860498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24C-7E52-4BF7-A938-1240102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42C-23D2-41E5-AF13-81F3D4A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A14-AE57-4B5C-A754-E68B7A4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3B0-8B81-430E-A9D5-D2FAB5B65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520" y="6781680"/>
            <a:ext cx="21337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8168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57A-AF3A-41DB-9A30-D487B1D73D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3915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2:11:19Z</dcterms:created>
  <dc:creator>Michael</dc:creator>
  <dc:description/>
  <dc:language>en-US</dc:language>
  <cp:lastModifiedBy>Michael</cp:lastModifiedBy>
  <dcterms:modified xsi:type="dcterms:W3CDTF">2010-12-03T12:12:05Z</dcterms:modified>
  <cp:revision>1</cp:revision>
  <dc:subject/>
  <dc:title>Our Christmas service</dc:title>
</cp:coreProperties>
</file>