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EBCC-33A8-4C4F-A91B-96FF861AB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A77-16CF-40DC-98FA-06E06D0105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8362-B2B5-4F9F-AB43-3B9EB31E61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first candle as a sign of wa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second candle to show we are getting ready for Jesus new life in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third pink candle as a sign of our joy in getting ready for Jesus’ birth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we are ready to light the fourth candle to show we are nearly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ite candle in the centre will be lit on Christma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85B4-E96B-43CE-B34E-6F048A8EBC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586-3A1F-4A1D-B552-3161B05DD9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a Giovanni was a simple and most holy man and so people called him Angelico meaning, like an an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was called this because he was so good and because he could paint the most beautiful expressions on his sub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22DD-378E-43B7-97FD-53852E60C1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 listen to the words of the Gosp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002-2E3E-4A88-A56F-EC36265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E50-99C0-4B69-9CBF-A637275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444-48ED-417F-A6CF-F2A77494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E86-FFB4-457E-87E3-78F117CA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DFA-0CA9-4977-8D4A-BF38DE0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51A-1AA2-4765-BA7F-C1A0ADEA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889-A66D-4AC3-9E04-C828974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1A3-AAC4-4DCE-91F3-B2985E08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5A7-5B87-4A3D-8948-FF62840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0D2-628D-49BF-BD66-BE80526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DA3-7192-4BD3-B78B-43C2FDF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715-6A7F-401C-AFD4-1D38D519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73360" y="6203520"/>
            <a:ext cx="280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11200" y="6203520"/>
            <a:ext cx="3879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112320" y="6181560"/>
            <a:ext cx="66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CDC-0063-4D86-A1AE-A9CEB4434527}" type="slidenum">
              <a:rPr b="0" lang="en-GB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-235080" y="620640"/>
            <a:ext cx="101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 of Lov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3680" y="5589720"/>
            <a:ext cx="93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Fourth Sunday of Advent Year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Fotolia_10059582_XS.jpg"/>
          <p:cNvPicPr/>
          <p:nvPr/>
        </p:nvPicPr>
        <p:blipFill>
          <a:blip r:embed="rId1"/>
          <a:stretch/>
        </p:blipFill>
        <p:spPr>
          <a:xfrm>
            <a:off x="1738440" y="1785960"/>
            <a:ext cx="5922720" cy="395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208160" y="620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remember what Jesus asks us to do so we can be full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gift of His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Fotolia_11927074_XS.jpg"/>
          <p:cNvPicPr/>
          <p:nvPr/>
        </p:nvPicPr>
        <p:blipFill>
          <a:blip r:embed="rId1"/>
          <a:stretch/>
        </p:blipFill>
        <p:spPr>
          <a:xfrm>
            <a:off x="3024360" y="2214720"/>
            <a:ext cx="4174920" cy="417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WordArt 4"/>
          <p:cNvGrpSpPr/>
          <p:nvPr/>
        </p:nvGrpSpPr>
        <p:grpSpPr>
          <a:xfrm>
            <a:off x="2505240" y="5516640"/>
            <a:ext cx="4578120" cy="1146240"/>
            <a:chOff x="2505240" y="5516640"/>
            <a:chExt cx="4578120" cy="1146240"/>
          </a:xfrm>
        </p:grpSpPr>
        <p:pic>
          <p:nvPicPr>
            <p:cNvPr id="71" name="WordArt 4" descr=""/>
            <p:cNvPicPr/>
            <p:nvPr/>
          </p:nvPicPr>
          <p:blipFill>
            <a:blip r:embed="rId1"/>
            <a:stretch/>
          </p:blipFill>
          <p:spPr>
            <a:xfrm>
              <a:off x="2505240" y="5516640"/>
              <a:ext cx="45781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523960" y="5532480"/>
              <a:ext cx="45468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  <a:ea typeface="Arial"/>
                </a:rPr>
                <a:t>Say our prayer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" name="Picture 8" descr="Fotolia_6312072_XS.jpg"/>
          <p:cNvPicPr/>
          <p:nvPr/>
        </p:nvPicPr>
        <p:blipFill>
          <a:blip r:embed="rId2"/>
          <a:stretch/>
        </p:blipFill>
        <p:spPr>
          <a:xfrm>
            <a:off x="952560" y="571680"/>
            <a:ext cx="8077320" cy="539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b2b2b2"/>
                </a:solidFill>
                <a:latin typeface="Comic Sans MS"/>
              </a:rPr>
              <a:t>Help other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5" name="WordArt 23"/>
          <p:cNvSpPr txBox="1"/>
          <p:nvPr/>
        </p:nvSpPr>
        <p:spPr>
          <a:xfrm>
            <a:off x="488880" y="5500800"/>
            <a:ext cx="217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ho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7040520" y="5645160"/>
            <a:ext cx="2376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pl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22"/>
          <p:cNvSpPr txBox="1"/>
          <p:nvPr/>
        </p:nvSpPr>
        <p:spPr>
          <a:xfrm>
            <a:off x="3355920" y="4714920"/>
            <a:ext cx="30974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 schoo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13" descr="Fotolia_865888_XS.jpg"/>
          <p:cNvPicPr/>
          <p:nvPr/>
        </p:nvPicPr>
        <p:blipFill>
          <a:blip r:embed="rId1"/>
          <a:stretch/>
        </p:blipFill>
        <p:spPr>
          <a:xfrm>
            <a:off x="3024360" y="1785960"/>
            <a:ext cx="3768480" cy="251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Fotolia_9913222_XS.jpg"/>
          <p:cNvPicPr/>
          <p:nvPr/>
        </p:nvPicPr>
        <p:blipFill>
          <a:blip r:embed="rId2"/>
          <a:stretch/>
        </p:blipFill>
        <p:spPr>
          <a:xfrm>
            <a:off x="380880" y="1500120"/>
            <a:ext cx="2516400" cy="376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Fotolia_8651803_XS.jpg"/>
          <p:cNvPicPr/>
          <p:nvPr/>
        </p:nvPicPr>
        <p:blipFill>
          <a:blip r:embed="rId3"/>
          <a:stretch/>
        </p:blipFill>
        <p:spPr>
          <a:xfrm>
            <a:off x="6953400" y="1500120"/>
            <a:ext cx="2516040" cy="376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WordArt 4"/>
          <p:cNvGrpSpPr/>
          <p:nvPr/>
        </p:nvGrpSpPr>
        <p:grpSpPr>
          <a:xfrm>
            <a:off x="396720" y="755640"/>
            <a:ext cx="9210960" cy="592200"/>
            <a:chOff x="396720" y="755640"/>
            <a:chExt cx="9210960" cy="592200"/>
          </a:xfrm>
        </p:grpSpPr>
        <p:pic>
          <p:nvPicPr>
            <p:cNvPr id="82" name="WordArt 4" descr=""/>
            <p:cNvPicPr/>
            <p:nvPr/>
          </p:nvPicPr>
          <p:blipFill>
            <a:blip r:embed="rId1"/>
            <a:stretch/>
          </p:blipFill>
          <p:spPr>
            <a:xfrm>
              <a:off x="396720" y="755640"/>
              <a:ext cx="92109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2920" y="773280"/>
              <a:ext cx="91836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b2b2b2"/>
                  </a:solidFill>
                  <a:latin typeface="Comic Sans MS"/>
                </a:rPr>
                <a:t>Give up being selfish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8" descr="Fotolia_7359584_XS.jpg"/>
          <p:cNvPicPr/>
          <p:nvPr/>
        </p:nvPicPr>
        <p:blipFill>
          <a:blip r:embed="rId2"/>
          <a:stretch/>
        </p:blipFill>
        <p:spPr>
          <a:xfrm>
            <a:off x="3238560" y="1571760"/>
            <a:ext cx="3235320" cy="484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Advent Candles4_2"/>
          <p:cNvPicPr/>
          <p:nvPr/>
        </p:nvPicPr>
        <p:blipFill>
          <a:blip r:embed="rId1"/>
          <a:stretch/>
        </p:blipFill>
        <p:spPr>
          <a:xfrm>
            <a:off x="1600200" y="825480"/>
            <a:ext cx="6707160" cy="520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235080" y="620640"/>
            <a:ext cx="101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 of Lov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93680" y="5748480"/>
            <a:ext cx="93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Fourth Sunday of Advent Year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Fotolia_10059582_XS.jpg"/>
          <p:cNvPicPr/>
          <p:nvPr/>
        </p:nvPicPr>
        <p:blipFill>
          <a:blip r:embed="rId1"/>
          <a:stretch/>
        </p:blipFill>
        <p:spPr>
          <a:xfrm>
            <a:off x="1809720" y="1833480"/>
            <a:ext cx="5923080" cy="395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74880" y="836640"/>
            <a:ext cx="81896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learn about why Elizabeth was so pleased to have a visit from M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I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know if we have been successful if we can talk about how we understand that Jesus is a gift from G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MCj04110310000[1]"/>
          <p:cNvPicPr/>
          <p:nvPr/>
        </p:nvPicPr>
        <p:blipFill>
          <a:blip r:embed="rId1"/>
          <a:stretch/>
        </p:blipFill>
        <p:spPr>
          <a:xfrm>
            <a:off x="7994520" y="476280"/>
            <a:ext cx="1606680" cy="150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Fotolia_17307147_XS.jpg"/>
          <p:cNvPicPr/>
          <p:nvPr/>
        </p:nvPicPr>
        <p:blipFill>
          <a:blip r:embed="rId1"/>
          <a:stretch/>
        </p:blipFill>
        <p:spPr>
          <a:xfrm>
            <a:off x="0" y="0"/>
            <a:ext cx="9906120" cy="932328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4524480" y="71280"/>
            <a:ext cx="5254560" cy="551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esents are wrapped 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ightly coloured pape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tied up 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etty ribb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bow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Fotolia_17778313_XS.jpg"/>
          <p:cNvPicPr/>
          <p:nvPr/>
        </p:nvPicPr>
        <p:blipFill>
          <a:blip r:embed="rId1"/>
          <a:stretch/>
        </p:blipFill>
        <p:spPr>
          <a:xfrm>
            <a:off x="0" y="-142920"/>
            <a:ext cx="4672080" cy="70009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2"/>
          <p:cNvSpPr txBox="1"/>
          <p:nvPr/>
        </p:nvSpPr>
        <p:spPr>
          <a:xfrm>
            <a:off x="5238720" y="907920"/>
            <a:ext cx="428616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boy is delighte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 one of them h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en left for him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681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if one package under the tree is this one, beautifully wrapped in plain brown paper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ould he would choose to open it first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ll he know what is in i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uld it be really special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gift is supposed to come in a beautiful package, isn't i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739520" y="399996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587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Fotolia_2005873_XS.jpg"/>
          <p:cNvPicPr/>
          <p:nvPr/>
        </p:nvPicPr>
        <p:blipFill>
          <a:blip r:embed="rId1"/>
          <a:stretch/>
        </p:blipFill>
        <p:spPr>
          <a:xfrm>
            <a:off x="4595760" y="1071720"/>
            <a:ext cx="5067360" cy="382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2520" y="1856880"/>
            <a:ext cx="345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God's gift didn't come in a beautifully wrapped package. God sent Jesus, His only Son, as His gift to us, born in a st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1" name="Picture 6" descr="Fotolia_17543490_XS.jpg"/>
          <p:cNvPicPr/>
          <p:nvPr/>
        </p:nvPicPr>
        <p:blipFill>
          <a:blip r:embed="rId1"/>
          <a:stretch/>
        </p:blipFill>
        <p:spPr>
          <a:xfrm>
            <a:off x="4167360" y="1214280"/>
            <a:ext cx="5433840" cy="430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4160" y="47592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ose days Mary set out and went with haste to a Judean town in the hill country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she entered the house of Zechariah and greeted Elizabet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izabeth was filled with the Holy Spirit and exclaimed with a loud cry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"Blessed are you among women, and blessed is the fruit of your womb.”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095800" y="557208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his is the Gospel of the Lord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Praise to you, Lord Jesus Ch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2520" y="1285560"/>
            <a:ext cx="39290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This gift of God, Jesus, was born to a young woma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His earthly father was a poor carpenter, not a royal king with fine clothes and pala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5" name="Picture 4" descr="File:Collinson, Holy Family.jpg"/>
          <p:cNvPicPr/>
          <p:nvPr/>
        </p:nvPicPr>
        <p:blipFill>
          <a:blip r:embed="rId1"/>
          <a:stretch/>
        </p:blipFill>
        <p:spPr>
          <a:xfrm>
            <a:off x="4627440" y="0"/>
            <a:ext cx="52786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60520" y="1929600"/>
            <a:ext cx="3600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Jesus was the greatest gift the world has ever know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e is the gift of l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e knows your name and mine!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See full size image"/>
          <p:cNvPicPr/>
          <p:nvPr/>
        </p:nvPicPr>
        <p:blipFill>
          <a:blip r:embed="rId1"/>
          <a:stretch/>
        </p:blipFill>
        <p:spPr>
          <a:xfrm>
            <a:off x="4881600" y="907920"/>
            <a:ext cx="408924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0:48:23Z</dcterms:created>
  <dc:creator>Fawcett Family</dc:creator>
  <dc:description/>
  <dc:language>en-US</dc:language>
  <cp:lastModifiedBy>Michael McGrath</cp:lastModifiedBy>
  <dcterms:modified xsi:type="dcterms:W3CDTF">2009-12-17T21:18:52Z</dcterms:modified>
  <cp:revision>42</cp:revision>
  <dc:subject/>
  <dc:title>Slide 1</dc:title>
</cp:coreProperties>
</file>