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33DB-7B13-4B5A-8CBF-9AF22D5CB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8E2D-EAEA-496E-A6EA-5F94DAF88C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erald is the person who blows the trumpet to tell us that the King is co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lots of trumpets sound together as in this picture, it is called a fanfare. A fanfare describes the celebration surrounding a special event, like the coming of the queen or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there wasn't much fanfare surrounding the coming of Jesus. There were no trumpets and no one shouting, "God save the king!" The Bible tells us that there was only a man named John who was like a voice calling out in the desert saying, "Prepare the way for the Lord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was the herald for Je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was telling us how to prepare for the king – not an earthly king with a crown, jewels and soldiers, but the king of our he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6F68-F873-47DB-9ED3-4999F51CBD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ADF1-3DAB-4646-A35C-BA97B1470F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said we should get ready for Jes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pr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giving up being sel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helping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BD5A-BD96-4FA3-A52C-F1259A069F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asked us to leave the old ways with twists and turns behind and to make our lives go straight to G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ld ways of thinking about ourselves all the time and forgetting to have time to talk to G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ittle time at the end of the day to thank God for everything you h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tell him about what you did we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tell Him what you could do bet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sk Him for help to put Him first in you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 this you will find your life filled with jo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6DA-E4F1-44F4-BF50-66B441F3E6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asked us to prepare for Jesus to be the king of our hearts by reaching out to other people and putting them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we put others before ourselves so that they are the important ones, not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we fill up hearts we have broken by not loving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other ways can you think of to avoid being self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4D82-863C-4006-BCB6-70CFEAB91F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called out to stop the old ways of thinking about ourselves all the time and forgetting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 be we should fill in our time for other people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at ho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ing those who are lonely to join in our gam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ecting those who are not as lucky as we are. Maybe someone else does not have all the gifts we do; it does not make us more spe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d you decide last week how to help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you started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6731-7CED-4114-8E11-75DD589A76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first candle as a sign of wa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we light the second candle to show we are getting ready for Jesus’ new life in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279-0B5A-40E8-A2AB-755A34A6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1FC-070A-499E-93A7-663C3A28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1D5-CEAD-4920-AF75-6C0CA61C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854-AA05-46C9-ADAB-FB69F003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13F-B508-46F8-B1A5-62CA260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DFF-2A2F-4639-A7AC-D637C01E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BC3-787F-4FDC-9A4C-948AB44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1B9-3DD3-40C2-B888-9A0076B8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DF7-AB31-4BA4-99E3-F05AA909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060-1887-4A26-978C-9477623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FA9-DCCB-49EA-B49E-787B9A9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600-5ECE-4698-8DFF-A2E99C8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35DB-FF61-44CC-8323-EBFD4BC2CE3C}" type="slidenum">
              <a:rPr b="0" lang="en-GB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n.fotolia.com/id/1195673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fotolia.com/id/4858015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fotolia.com/id/17338176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96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</a:rPr>
              <a:t>Joy of Salvation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14200" y="558972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Times New Roman"/>
              </a:rPr>
              <a:t>Second Sunday of Advent Year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8" descr="Fotolia_14225155_XS.jpeg"/>
          <p:cNvPicPr/>
          <p:nvPr/>
        </p:nvPicPr>
        <p:blipFill>
          <a:blip r:embed="rId1"/>
          <a:stretch/>
        </p:blipFill>
        <p:spPr>
          <a:xfrm>
            <a:off x="1785960" y="1714680"/>
            <a:ext cx="53848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-217440" y="0"/>
            <a:ext cx="93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</a:rPr>
              <a:t>Joy of Salvation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6" descr="Fotolia_14225155_XS.jpeg"/>
          <p:cNvPicPr/>
          <p:nvPr/>
        </p:nvPicPr>
        <p:blipFill>
          <a:blip r:embed="rId1"/>
          <a:stretch/>
        </p:blipFill>
        <p:spPr>
          <a:xfrm>
            <a:off x="1785960" y="1714680"/>
            <a:ext cx="53848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00000" y="836640"/>
            <a:ext cx="7559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learn that we are joyful when we welcome Jesus into our he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I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know if we have been successful if we can talk about some of the ways in which Jesus brings us jo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MCj04110310000[1]"/>
          <p:cNvPicPr/>
          <p:nvPr/>
        </p:nvPicPr>
        <p:blipFill>
          <a:blip r:embed="rId1"/>
          <a:stretch/>
        </p:blipFill>
        <p:spPr>
          <a:xfrm>
            <a:off x="7380360" y="476280"/>
            <a:ext cx="14824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Fotolia_4964695_XS.jpeg"/>
          <p:cNvPicPr/>
          <p:nvPr/>
        </p:nvPicPr>
        <p:blipFill>
          <a:blip r:embed="rId1"/>
          <a:stretch/>
        </p:blipFill>
        <p:spPr>
          <a:xfrm>
            <a:off x="1785960" y="500040"/>
            <a:ext cx="5711760" cy="57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0" y="528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epare a  way for the L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ke his paths straight . . 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 voice cries in the wildernes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Fotolia_13809616_XS.jpeg"/>
          <p:cNvPicPr/>
          <p:nvPr/>
        </p:nvPicPr>
        <p:blipFill>
          <a:blip r:embed="rId1"/>
          <a:stretch/>
        </p:blipFill>
        <p:spPr>
          <a:xfrm>
            <a:off x="714240" y="1928880"/>
            <a:ext cx="785196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826920" y="5300640"/>
            <a:ext cx="741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d all mankind shall see the salvation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This is the Gospel of the Lord</a:t>
            </a:r>
            <a:br>
              <a:rPr sz="1800"/>
            </a:b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Praise to you, Lord Jesus Chr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Fotolia_4945175_XS.jpeg"/>
          <p:cNvPicPr/>
          <p:nvPr/>
        </p:nvPicPr>
        <p:blipFill>
          <a:blip r:embed="rId1"/>
          <a:stretch/>
        </p:blipFill>
        <p:spPr>
          <a:xfrm>
            <a:off x="1643040" y="642960"/>
            <a:ext cx="60800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WordArt 4"/>
          <p:cNvGrpSpPr/>
          <p:nvPr/>
        </p:nvGrpSpPr>
        <p:grpSpPr>
          <a:xfrm>
            <a:off x="2249640" y="317520"/>
            <a:ext cx="4578120" cy="1146240"/>
            <a:chOff x="2249640" y="317520"/>
            <a:chExt cx="4578120" cy="1146240"/>
          </a:xfrm>
        </p:grpSpPr>
        <p:pic>
          <p:nvPicPr>
            <p:cNvPr id="60" name="WordArt 4" descr=""/>
            <p:cNvPicPr/>
            <p:nvPr/>
          </p:nvPicPr>
          <p:blipFill>
            <a:blip r:embed="rId1"/>
            <a:stretch/>
          </p:blipFill>
          <p:spPr>
            <a:xfrm>
              <a:off x="2249640" y="317520"/>
              <a:ext cx="45781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268360" y="333360"/>
              <a:ext cx="454680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</a:rPr>
                <a:t>Praye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" name="Picture 5" descr="young boy praying vertic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700280"/>
            <a:ext cx="3105360" cy="4680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5435640" y="2133720"/>
            <a:ext cx="306864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lk t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esu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 you talk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your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st friend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WordArt 4"/>
          <p:cNvGrpSpPr/>
          <p:nvPr/>
        </p:nvGrpSpPr>
        <p:grpSpPr>
          <a:xfrm>
            <a:off x="450720" y="317520"/>
            <a:ext cx="8259840" cy="1249200"/>
            <a:chOff x="450720" y="317520"/>
            <a:chExt cx="8259840" cy="1249200"/>
          </a:xfrm>
        </p:grpSpPr>
        <p:pic>
          <p:nvPicPr>
            <p:cNvPr id="65" name="WordArt 4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82598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68360" y="333360"/>
              <a:ext cx="82296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</a:rPr>
                <a:t>Give up being selfis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10" descr="block letters - 3d concept illustr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924280"/>
            <a:ext cx="3529080" cy="2663640"/>
          </a:xfrm>
          <a:prstGeom prst="rect">
            <a:avLst/>
          </a:prstGeom>
          <a:ln w="0">
            <a:noFill/>
          </a:ln>
        </p:spPr>
      </p:pic>
      <p:sp>
        <p:nvSpPr>
          <p:cNvPr id="68" name="Line 11"/>
          <p:cNvSpPr/>
          <p:nvPr/>
        </p:nvSpPr>
        <p:spPr>
          <a:xfrm>
            <a:off x="611280" y="2637000"/>
            <a:ext cx="4537080" cy="309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684360" y="2637000"/>
            <a:ext cx="4032000" cy="30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4" descr="ハートのプレゼント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916280"/>
            <a:ext cx="2895480" cy="4322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5"/>
          <p:cNvSpPr/>
          <p:nvPr/>
        </p:nvSpPr>
        <p:spPr>
          <a:xfrm>
            <a:off x="5796000" y="4508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66ff33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WordArt 4"/>
          <p:cNvGrpSpPr/>
          <p:nvPr/>
        </p:nvGrpSpPr>
        <p:grpSpPr>
          <a:xfrm>
            <a:off x="1311120" y="384120"/>
            <a:ext cx="6669360" cy="1079640"/>
            <a:chOff x="1311120" y="384120"/>
            <a:chExt cx="6669360" cy="1079640"/>
          </a:xfrm>
        </p:grpSpPr>
        <p:pic>
          <p:nvPicPr>
            <p:cNvPr id="73" name="WordArt 4" descr=""/>
            <p:cNvPicPr/>
            <p:nvPr/>
          </p:nvPicPr>
          <p:blipFill>
            <a:blip r:embed="rId1"/>
            <a:stretch/>
          </p:blipFill>
          <p:spPr>
            <a:xfrm>
              <a:off x="1311120" y="384120"/>
              <a:ext cx="6669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32000" y="404640"/>
              <a:ext cx="6635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</a:rPr>
                <a:t>Help other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WordArt 21"/>
          <p:cNvSpPr txBox="1"/>
          <p:nvPr/>
        </p:nvSpPr>
        <p:spPr>
          <a:xfrm>
            <a:off x="336600" y="3782880"/>
            <a:ext cx="26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th wor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571680" y="6453360"/>
            <a:ext cx="2592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pl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WordArt 23"/>
          <p:cNvSpPr txBox="1"/>
          <p:nvPr/>
        </p:nvSpPr>
        <p:spPr>
          <a:xfrm>
            <a:off x="6588000" y="5373720"/>
            <a:ext cx="202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hom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WordArt 24"/>
          <p:cNvSpPr txBox="1"/>
          <p:nvPr/>
        </p:nvSpPr>
        <p:spPr>
          <a:xfrm>
            <a:off x="3786120" y="4714920"/>
            <a:ext cx="2228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y giv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Picture 16" descr="Fotolia_12334886_XS.jpeg"/>
          <p:cNvPicPr/>
          <p:nvPr/>
        </p:nvPicPr>
        <p:blipFill>
          <a:blip r:embed="rId2"/>
          <a:stretch/>
        </p:blipFill>
        <p:spPr>
          <a:xfrm>
            <a:off x="55440" y="1571760"/>
            <a:ext cx="3230640" cy="215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Fotolia_8651734_XS.jpeg"/>
          <p:cNvPicPr/>
          <p:nvPr/>
        </p:nvPicPr>
        <p:blipFill>
          <a:blip r:embed="rId3"/>
          <a:stretch/>
        </p:blipFill>
        <p:spPr>
          <a:xfrm>
            <a:off x="285840" y="4273560"/>
            <a:ext cx="3230640" cy="215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Fotolia_46738_XS.jpeg"/>
          <p:cNvPicPr/>
          <p:nvPr/>
        </p:nvPicPr>
        <p:blipFill>
          <a:blip r:embed="rId4"/>
          <a:stretch/>
        </p:blipFill>
        <p:spPr>
          <a:xfrm>
            <a:off x="3929040" y="214308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Fotolia_5256781_XS.jpeg"/>
          <p:cNvPicPr/>
          <p:nvPr/>
        </p:nvPicPr>
        <p:blipFill>
          <a:blip r:embed="rId5"/>
          <a:stretch/>
        </p:blipFill>
        <p:spPr>
          <a:xfrm>
            <a:off x="6262560" y="1500120"/>
            <a:ext cx="252432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Advent Candles2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520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1:19:08Z</dcterms:created>
  <dc:creator>Andrew Fawcett</dc:creator>
  <dc:description/>
  <dc:language>en-US</dc:language>
  <cp:lastModifiedBy>Michael McGrath</cp:lastModifiedBy>
  <dcterms:modified xsi:type="dcterms:W3CDTF">2009-11-30T17:43:58Z</dcterms:modified>
  <cp:revision>53</cp:revision>
  <dc:subject/>
  <dc:title>Slide 1</dc:title>
</cp:coreProperties>
</file>